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2.pct" ContentType="image/x-pict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7C0C-8FEA-49DD-AC10-F2160354B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55A4-483F-4C78-8ABF-B504D8A091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D6C4-A800-43A1-9CC9-102E791745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DFDE-A70B-4FD5-B08B-6918F3DF40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D24F-EACA-4718-A257-26C83C5C0E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7992-2415-4949-986C-F8D0C25D6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D84D-035B-43F0-9C7E-1E5534F880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CCE9-67F1-4A24-999B-4A0E7A38EB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638B-B44E-42A2-8F31-CE904C1F4A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14C5-608E-469B-B664-807D8226FD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FF9F-0517-4DBE-9257-39A8FF6E99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C82A-E518-4C7B-924A-330245D477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DE57-CB96-4CA9-B378-616929CF5C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47D2-B142-496E-B8FE-D70C9F2124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4091-362C-421E-B7DB-41B4DBCAA5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D2BF-05CF-4FAF-9E46-92963BEA4B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F2C8-1267-4EA1-A741-3C0911A704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A336-0EB3-48F5-A7E9-0E1413FC0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6570-824D-404D-AAF5-D26B839B5B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8C44-6387-49A5-8BF9-61ED86CB0D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919-B3DB-493B-84DC-272598BC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612-661A-46B6-A6EB-7F9F5E36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554-99A3-425D-9BDD-7683AB56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9E5-F1C1-4EB2-85A5-2B0F1973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1F0A-0798-44D8-8A70-E6E6E6A1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CBB9-1F7C-425F-8498-3BB4B3AD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B22C-E287-4ED4-AE13-778A9607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7242-3084-4157-8F6D-3A8AFE9F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1AC5-0980-4464-B4B2-A20CDBB1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D8F7-1A22-4915-AC76-8B5416E8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326C-88A6-4217-92B6-8088273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580-5CA4-4D01-9A02-BFFC6586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3B62-737B-4D3E-B39B-B965B2D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C1B1-C5DB-459F-B1BA-EB8931D2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433A-7224-4F02-982E-3024E4A7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C526-D238-4AF3-BF71-067028AC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58FA-690C-4547-803F-C85BEE90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DED-1138-4FA1-A6A0-956D967D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B6B-0434-4126-8B86-0475E7EE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3D8-19CC-4765-B0DF-32571487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0A6-827A-4931-84CB-622B16C1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8AD-168B-468F-B951-BAC93225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5EF-5CD4-4C4C-9350-D900317A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916-8862-4A23-B80C-1FD6E67C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A85D-DB59-4A1E-98FE-831844EBF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A265-DB44-494E-A90E-878F8DDE1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ducationworld.com/a_lesson/images/lp_classroomrules_180w.gif&amp;imgrefurl=http://www.educationworld.com/a_lesson/lesson/lesson274.shtml&amp;h=180&amp;w=180&amp;sz=6&amp;hl=en&amp;start=14&amp;tbnid=2j0tmSBbjnFYjM:&amp;tbnh=101&amp;tbnw=101&amp;prev=/images?q=classroom+rules&amp;gbv=2&amp;hl=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aywhatyoumeanconvention.com/friends.jpg&amp;imgrefurl=http://www.saywhatyoumeanconvention.com/kids-day-07.html&amp;h=271&amp;w=403&amp;sz=24&amp;hl=en&amp;start=4&amp;tbnid=BVQUjgf-yWDeRM:&amp;tbnh=83&amp;tbnw=124&amp;prev=/images?q=kid+friends&amp;gbv=2&amp;hl=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wtonka.com/Okay.gif&amp;imgrefurl=http://www.lawtonka.com/maps.html&amp;h=1920&amp;w=925&amp;sz=101&amp;hl=en&amp;start=2&amp;tbnid=XITnn3IGflS2SM:&amp;tbnh=150&amp;tbnw=72&amp;prev=/images?q=okay&amp;gbv=2&amp;hl=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esift.atlblogs.com/images/scared.png&amp;imgrefurl=http://thesift.atlblogs.com/archives/010517.html&amp;h=254&amp;w=278&amp;sz=22&amp;hl=en&amp;start=8&amp;tbnid=m8YK_4Uf-AbtIM:&amp;tbnh=104&amp;tbnw=114&amp;prev=/images?q=Scared&amp;gbv=2&amp;hl=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s60.com/tommi/images/learning.jpg&amp;imgrefurl=http://blogs.s60.com/tommi/2007/07/&amp;h=346&amp;w=347&amp;sz=100&amp;hl=en&amp;start=4&amp;tbnid=IGAsqLaIoLwb_M:&amp;tbnh=120&amp;tbnw=120&amp;prev=/images?q=Learning&amp;gbv=2&amp;hl=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nder.edu/mathcis/faculty/MathCISImages/Laura_Lander_SMART_Classroom.jpg&amp;imgrefurl=http://www.lander.edu/mathcis/resource/&amp;h=451&amp;w=600&amp;sz=40&amp;hl=en&amp;start=9&amp;tbnid=CCucR1Bivt570M:&amp;tbnh=101&amp;tbnw=135&amp;prev=/images?q=classroom&amp;gbv=2&amp;hl=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nder.edu/mathcis/faculty/MathCISImages/Laura_Lander_SMART_Classroom.jpg&amp;imgrefurl=http://www.lander.edu/mathcis/resource/&amp;h=451&amp;w=600&amp;sz=40&amp;hl=en&amp;start=9&amp;tbnid=CCucR1Bivt570M:&amp;tbnh=101&amp;tbnw=135&amp;prev=/images?q=classroom&amp;gbv=2&amp;hl=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am.gov/teachers/images/image_teacher.jpg&amp;imgrefurl=http://www.bam.gov/teachers/index.htm&amp;h=402&amp;w=380&amp;sz=41&amp;hl=en&amp;start=5&amp;tbnid=p7UFRDIuRU3UkM:&amp;tbnh=124&amp;tbnw=117&amp;prev=/images?q=teacher&amp;gbv=2&amp;hl=en&amp;sa=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lobal-b2b-network.com/direct/dbimage/50318908/Student_Desk.jpg&amp;imgrefurl=http://www.global-b2b-network.com/b2b/26/28/882/21436/office_chair.html&amp;h=360&amp;w=360&amp;sz=16&amp;hl=en&amp;start=2&amp;tbnid=8vG7YkSiO8A38M:&amp;tbnh=121&amp;tbnw=121&amp;prev=/images?q=desk&amp;gbv=2&amp;hl=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lumbia.edu/cu/augustine/study/schedule.gif&amp;imgrefurl=http://www.columbia.edu/cu/augustine/study/schedule.html&amp;h=573&amp;w=443&amp;sz=7&amp;hl=en&amp;start=1&amp;tbnid=0ZC1W84yBf-uBM:&amp;tbnh=134&amp;tbnw=104&amp;prev=/images?q=schedule&amp;gbv=2&amp;hl=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 New Classroom for Jas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son will have new classroom rul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lp_classroomrules_180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962520"/>
            <a:ext cx="2028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Jason will have new friend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frie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4038480"/>
            <a:ext cx="3048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at’s okay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Ok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038480"/>
            <a:ext cx="2438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son may feel…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0" y="21333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car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scar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2004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rvou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istockphoto_3688168_nervous_wreck"/>
          <p:cNvPicPr/>
          <p:nvPr/>
        </p:nvPicPr>
        <p:blipFill>
          <a:blip r:embed="rId1"/>
          <a:stretch/>
        </p:blipFill>
        <p:spPr>
          <a:xfrm>
            <a:off x="3276720" y="3581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r M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BIG_make-face-angry"/>
          <p:cNvPicPr/>
          <p:nvPr/>
        </p:nvPicPr>
        <p:blipFill>
          <a:blip r:embed="rId1"/>
          <a:stretch/>
        </p:blipFill>
        <p:spPr>
          <a:xfrm>
            <a:off x="3581280" y="3809880"/>
            <a:ext cx="3048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ings Jason can do when he feels Scar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, “That scares m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an ad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for a hu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, “I’m afrai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ings Jason can do if he feels Mad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y, “I’m mad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for a wal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to a quiet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 to mu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deep brea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560" y="1676160"/>
            <a:ext cx="6553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ason will have fun in his new classroom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1" descr="MCj01302530000[1]"/>
          <p:cNvPicPr/>
          <p:nvPr/>
        </p:nvPicPr>
        <p:blipFill>
          <a:blip r:embed="rId1"/>
          <a:stretch/>
        </p:blipFill>
        <p:spPr>
          <a:xfrm>
            <a:off x="2743200" y="3124080"/>
            <a:ext cx="39276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When students get older, they learn new things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lear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19112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re will be adults in Jason’s classroom who will help him with this change.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o learn these new things, sometimes students have to change classrooms.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Laura_Lander_SMART_Classro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449568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l students have to change classrooms at some point in their lives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tudents change classrooms when they are in 6</a:t>
            </a:r>
            <a:r>
              <a:rPr b="0" lang="en-US" sz="6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or 7</a:t>
            </a:r>
            <a:r>
              <a:rPr b="0" lang="en-US" sz="6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grade.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 August 2008, Jason will change classrooms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Laura_Lander_SMART_Classro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88620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son will have a new teacher.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image_teach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581280"/>
            <a:ext cx="3276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Jason will have a new desk.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Student_Des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9112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Jason will have a new schedul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schedu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4038480"/>
            <a:ext cx="2362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1:54:05Z</dcterms:created>
  <dc:creator>Kszewczyk</dc:creator>
  <dc:description/>
  <dc:language>en-US</dc:language>
  <cp:lastModifiedBy>Kristin Szewczyk</cp:lastModifiedBy>
  <dcterms:modified xsi:type="dcterms:W3CDTF">2008-07-11T21:35:12Z</dcterms:modified>
  <cp:revision>8</cp:revision>
  <dc:subject/>
  <dc:title>A New Classroom for Zachery</dc:title>
</cp:coreProperties>
</file>